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22E0-238A-4971-A260-06A7BB0A1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BE70-FAE3-43BD-88DF-6EFEDED2E5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26E-AA90-40F3-BD2B-8D1EB013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A34-03A2-4AB1-AB7E-A477C166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8F1-E426-4B61-BF6A-7753AE7D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8CD-575C-4571-8753-9ECBDEB0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C24-7C4E-427A-A3B4-47B036E2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40F-474F-4127-8583-0EECF6D2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A79-BF50-4268-AD42-109EF0E2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801-1213-4B5A-9123-9C7D5221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318-1952-40FF-83B5-02546843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77D-CC73-494E-8317-E0B564A2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1F3-D3AE-42E0-BA17-6914D32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468-BF77-45C1-8738-602725A9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50A3-DBCE-4745-88F3-151FC53780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8:08:55Z</dcterms:modified>
  <cp:revision>31</cp:revision>
  <dc:subject/>
  <dc:title>What Goes Up Must Come Down</dc:title>
</cp:coreProperties>
</file>